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847-2D67-4EFF-BDC5-5EDEEBF9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4EA-928D-458F-9107-E6C1D4E8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5A2-1665-4356-BB36-D26C1FA1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E2D-813F-47AC-A9F4-92762632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DADC-4031-4CBE-B57E-B2FC4115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1753-0536-424F-9465-CD49AF6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40F3-0BE8-48E3-8F21-CFF87EEC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7EB-6D2C-4954-9CE2-8ACC829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019-AC4F-4FE6-9CFA-F7DE8D5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704C-6A09-423E-B49A-A978E58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C47B-2262-4354-B329-83B849C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DB3-18FC-4BC8-9027-8EB00A9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2412-45F1-4554-ABB8-A7F5BCB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E430-830C-498B-B9C3-10E4A61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6F90-A379-40CF-81E9-EAED2D6D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484-EE92-4071-878F-0FFDE92B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9C52-5FC4-4CD2-BFAF-140D196D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1D9-2F77-4B12-9B26-DC4AB15C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8A3-8CF5-463F-BE0F-B9FE8C42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904-7AF8-4C60-BA85-60AF65D0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583-EF2E-40AF-BC36-5FBE470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591-9FA6-4CE7-87A7-DA3F69F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6F4-6065-4593-B25C-1126F30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981-2F75-4B30-8FFB-4BA0E105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1869-1FBA-4572-8BA5-634B1BC72F6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10CF-820A-4EAD-9E99-0C1467235CF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ubiray.at.ua/_ld/7/83262595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razy.werd.ru/uploads/posts/thumbs/2009-03-30/1238407713_pic-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rota.ru/forum/images/58/58601.jpe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4647960"/>
            <a:ext cx="7772400" cy="2057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705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80880" y="4800600"/>
            <a:ext cx="8534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тое имя -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Ь!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«Женщина — великое слово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В ней чистота девушки, в ней самоотверженность подруги, в ней — подвиг матери»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                    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Н.А.Некрасов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Мать является душой мира, ее началом и бесконечностью. Она — живая душа, большая судьба, предмет любви и вдохновенья»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Р.Гамзат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«Без солнца не цветут цветы, без любви нет счастья, без женщины нет любви. Без матери нет ни поэта, ни героя. Вся гордость мира – от Матерей».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М.Горь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Мама- это первое слово!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Мама-это главное слово!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Мама-это солнце и небо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Мама – это вкус      душистого хлеба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Картинка 77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Картинка 3 из 18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0"/>
            <a:ext cx="73152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6080"/>
            <a:ext cx="62481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295280" y="46080"/>
            <a:ext cx="6400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52280" y="46080"/>
            <a:ext cx="8991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1T16:52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