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4.wmf" ContentType="image/x-wmf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84F3-7DA6-4A01-A4EE-31C06316EB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, и дети и взрослые любят сказки. Мир народных сказок разнообразен. В нем живут волшебные сказки, бытовые и сказки о животных. Одними из первых сказо,к с которыми знакомится маленький ребенок – это сказки о животных. Именно эти сказки знакомят маленького ребенка с 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повадка</a:t>
            </a:r>
            <a:r>
              <a:rPr b="1" lang="ru-RU" sz="1200" spc="-1" strike="noStrike">
                <a:solidFill>
                  <a:srgbClr val="b2b2b2"/>
                </a:solidFill>
                <a:latin typeface="Arial"/>
              </a:rPr>
              <a:t>ми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, проделка</a:t>
            </a:r>
            <a:r>
              <a:rPr b="1" lang="ru-RU" sz="1200" spc="-1" strike="noStrike">
                <a:solidFill>
                  <a:srgbClr val="b2b2b2"/>
                </a:solidFill>
                <a:latin typeface="Arial"/>
              </a:rPr>
              <a:t>ми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 и</a:t>
            </a:r>
            <a:r>
              <a:rPr b="1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приключения</a:t>
            </a:r>
            <a:r>
              <a:rPr b="1" lang="ru-RU" sz="1200" spc="-1" strike="noStrike">
                <a:solidFill>
                  <a:srgbClr val="b2b2b2"/>
                </a:solidFill>
                <a:latin typeface="Arial"/>
              </a:rPr>
              <a:t>ми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 диких и домашних зверей,</a:t>
            </a:r>
            <a:r>
              <a:rPr b="1" lang="ru-RU" sz="1200" spc="-1" strike="noStrike">
                <a:solidFill>
                  <a:srgbClr val="b2b2b2"/>
                </a:solidFill>
                <a:latin typeface="Arial"/>
              </a:rPr>
              <a:t> показывают их взаимоотношения. Однако задумывались ли вы:  </a:t>
            </a: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Times New Roman"/>
              </a:rPr>
              <a:t>Соответствуют ли образы диких животных в русских сказках их </a:t>
            </a:r>
            <a:r>
              <a:rPr b="1" lang="ru-RU" sz="1200" spc="-1" strike="noStrike">
                <a:solidFill>
                  <a:srgbClr val="b2b2b2"/>
                </a:solidFill>
                <a:latin typeface="Arial"/>
                <a:ea typeface="Times New Roman"/>
              </a:rPr>
              <a:t>р</a:t>
            </a: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Times New Roman"/>
              </a:rPr>
              <a:t>еальным прототипам??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ализ сборников с русскими народными сказками позволил определить самых популярных персонажей. Обобщенные данные представлены в диаграмме. Таким образом часто встречающимся персонажами являются лиса, волк, заяц, медведь, петух. Первое и второе место занимают лиса и волк. Именно им и посвящено наше выступление. Результаты сравнения других сказочных животных   с их реальными прототипами представлено в буклетах. Вы можете с ними ознаком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3EB5-6FE5-45A7-A6C5-5DBCB950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294-E8E3-4208-A6E4-0B755F68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B4B-2E02-418C-B107-4E8655AF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676A-5060-4741-B425-22903494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926-1C17-4D57-98EA-4295C7DB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7FF-2782-4C34-B2A3-757D7ED4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CF6-8C3F-45FB-81F8-BC63A340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B60-8AF3-4509-B5A2-1E2CA819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238D-E6EF-48CC-8E90-281D1192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B0E2-F386-4F26-AF66-2574D932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BB8-65AD-4454-89B3-4C6F0667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A82A-4FE4-41AF-A18F-BC910E73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A220-8747-44B7-9413-3FA7957D6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0"/>
            <a:ext cx="8686800" cy="6858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99ff"/>
              </a:gs>
              <a:gs pos="50000">
                <a:srgbClr val="66cc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990720"/>
            <a:ext cx="6095880" cy="5289840"/>
          </a:xfrm>
          <a:prstGeom prst="rect">
            <a:avLst/>
          </a:prstGeom>
          <a:noFill/>
          <a:ln w="0">
            <a:noFill/>
          </a:ln>
          <a:effectLst>
            <a:outerShdw dist="89808" dir="21116092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66ff"/>
                </a:solidFill>
                <a:latin typeface="Monotype Corsiva"/>
              </a:rPr>
              <a:t>Что за прелесть</a:t>
            </a:r>
            <a:r>
              <a:rPr b="1" lang="en-US" sz="12900" spc="-1" strike="noStrike">
                <a:solidFill>
                  <a:srgbClr val="0066ff"/>
                </a:solidFill>
                <a:latin typeface="Monotype Corsiva"/>
              </a:rPr>
              <a:t> 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191120"/>
            <a:ext cx="7848720" cy="402588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3399"/>
                </a:solidFill>
                <a:latin typeface="Monotype Corsiva"/>
              </a:rPr>
              <a:t>эти сказки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7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ВОЛШЕБНЫЕ СКА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908000" y="5229360"/>
            <a:ext cx="546264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УДЕСА И ПРЕВРАЩЕН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3241440" cy="381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356000" y="1557360"/>
            <a:ext cx="4537080" cy="3495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95680" y="2133720"/>
            <a:ext cx="4648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С.Пушкин советовал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«Читайте простонародные сказки, чтобы видеть красоту нашего язы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886200" cy="5410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5840" y="1523880"/>
            <a:ext cx="4800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«Сказка – складка, песня – быль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(народная пословиц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a2c8"/>
                </a:solidFill>
                <a:latin typeface="Arial"/>
              </a:rPr>
              <a:t>Сущность сказок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них рассказывается о том, чего не было и не могло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581640" cy="5638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Чему учат сказ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ознавать себя в окружающем ми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ить лучшие человеческие качества: доброту, преданность в дружбе и любви, справедливость, умение преодолевать любые жизненные невз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чные ценности – </a:t>
            </a:r>
            <a:r>
              <a:rPr b="0" lang="en-US" sz="3200" spc="-1" strike="noStrike">
                <a:solidFill>
                  <a:srgbClr val="00a8d0"/>
                </a:solidFill>
                <a:latin typeface="Arial"/>
              </a:rPr>
              <a:t>семья, дружба, любовь к Роди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зерно народной ска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47960" y="106632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4de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b4de"/>
                </a:solidFill>
                <a:latin typeface="Arial"/>
              </a:rPr>
              <a:t>Сказ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баснь», «байка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bdea"/>
                </a:solidFill>
                <a:latin typeface="Arial"/>
              </a:rPr>
              <a:t>Сказочн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        «бахар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411480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124080" cy="4038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85840" y="762120"/>
            <a:ext cx="4800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одные сказки, наряду с классическими литературными сказк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. Перро, Х. К. Андерсе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С. Пушкина, вош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сокровищницу мировой куль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ие сборники народных сказок: арабских 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Тысяча и одна ночь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ндийских 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анчатантр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мецких 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атьев В. и Я.Грим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усских 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Н.Афанасье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КАКИЕ БЫВАЮТ СКАЗ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547640" y="5876640"/>
            <a:ext cx="640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СКАЗКИ БЫВАЮТ РАЗНЫ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9960" y="2205000"/>
            <a:ext cx="2156040" cy="280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443640" y="692280"/>
            <a:ext cx="2449440" cy="3457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843280" y="1700280"/>
            <a:ext cx="331308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20000" y="2924280"/>
            <a:ext cx="1834920" cy="1557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8920" y="1557000"/>
            <a:ext cx="813132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just">
              <a:lnSpc>
                <a:spcPct val="80000"/>
              </a:lnSpc>
              <a:spcBef>
                <a:spcPts val="451"/>
              </a:spcBef>
              <a:buClr>
                <a:srgbClr val="9900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cc00"/>
                </a:solidFill>
                <a:latin typeface="Arial"/>
              </a:rPr>
              <a:t>Сказки о животных</a:t>
            </a: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99cc00"/>
                </a:solidFill>
                <a:latin typeface="Arial"/>
              </a:rPr>
              <a:t>возник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cc00"/>
                </a:solidFill>
                <a:latin typeface="Arial"/>
              </a:rPr>
              <a:t>в глубокой древности,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cc00"/>
                </a:solidFill>
                <a:latin typeface="Arial"/>
              </a:rPr>
              <a:t>них отражаются забы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cc00"/>
                </a:solidFill>
                <a:latin typeface="Arial"/>
              </a:rPr>
              <a:t>верования, обряды, представления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80000"/>
              </a:lnSpc>
              <a:spcBef>
                <a:spcPts val="451"/>
              </a:spcBef>
              <a:buClr>
                <a:srgbClr val="9900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В этих сказках</a:t>
            </a:r>
            <a:r>
              <a:rPr b="1" lang="de-DE" sz="1800" spc="-1" strike="noStrike">
                <a:solidFill>
                  <a:srgbClr val="99cc00"/>
                </a:solidFill>
                <a:latin typeface="Arial"/>
              </a:rPr>
              <a:t> говор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cc00"/>
                </a:solidFill>
                <a:latin typeface="Arial"/>
              </a:rPr>
              <a:t>о повадках, проделках и обыкнов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cc00"/>
                </a:solidFill>
                <a:latin typeface="Arial"/>
              </a:rPr>
              <a:t>приключениях диких и домашних звер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cc00"/>
                </a:solidFill>
                <a:latin typeface="Arial"/>
              </a:rPr>
              <a:t>о птицах и рыбах, отношения между котор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cc00"/>
                </a:solidFill>
                <a:latin typeface="Arial"/>
              </a:rPr>
              <a:t>очень похожи на отношения между людь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cc00"/>
                </a:solidFill>
                <a:latin typeface="Arial"/>
              </a:rPr>
              <a:t>Да и характер зверей уподобляется человеческому</a:t>
            </a: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16000" y="33336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66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казки о живот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66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219640" y="5013360"/>
            <a:ext cx="1873440" cy="1361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308720" y="4653000"/>
            <a:ext cx="162252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013360" y="1600200"/>
            <a:ext cx="1766880" cy="1498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39640" y="4941720"/>
            <a:ext cx="1943280" cy="1460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2916360" y="5229360"/>
            <a:ext cx="1873080" cy="13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500"/>
                            </p:stCondLst>
                            <p:childTnLst>
                              <p:par>
                                <p:cTn id="9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000"/>
                            </p:stCondLst>
                            <p:childTnLst>
                              <p:par>
                                <p:cTn id="9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500"/>
                            </p:stCondLst>
                            <p:childTnLst>
                              <p:par>
                                <p:cTn id="9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395280" y="260280"/>
            <a:ext cx="8494560" cy="6219720"/>
            <a:chOff x="395280" y="260280"/>
            <a:chExt cx="8494560" cy="621972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8494560" cy="62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1332000" y="1989000"/>
              <a:ext cx="1334880" cy="17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2538360" y="3429000"/>
              <a:ext cx="141768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4"/>
            <a:stretch/>
          </p:blipFill>
          <p:spPr>
            <a:xfrm>
              <a:off x="3924360" y="4653000"/>
              <a:ext cx="121608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5148360" y="5013360"/>
              <a:ext cx="129672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6"/>
            <a:stretch/>
          </p:blipFill>
          <p:spPr>
            <a:xfrm>
              <a:off x="6372360" y="5373720"/>
              <a:ext cx="143964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"/>
          <p:cNvGrpSpPr/>
          <p:nvPr/>
        </p:nvGrpSpPr>
        <p:grpSpPr>
          <a:xfrm>
            <a:off x="3132000" y="765000"/>
            <a:ext cx="5688000" cy="1941840"/>
            <a:chOff x="3132000" y="765000"/>
            <a:chExt cx="5688000" cy="1941840"/>
          </a:xfrm>
        </p:grpSpPr>
        <p:sp>
          <p:nvSpPr>
            <p:cNvPr id="82" name=""/>
            <p:cNvSpPr txBox="1"/>
            <p:nvPr/>
          </p:nvSpPr>
          <p:spPr>
            <a:xfrm>
              <a:off x="3132000" y="765000"/>
              <a:ext cx="5688000" cy="71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0080"/>
                      </a:gs>
                      <a:gs pos="100000">
                        <a:srgbClr val="ff9933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Самые популярные 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132000" y="1557360"/>
              <a:ext cx="5616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0080"/>
                      </a:gs>
                      <a:gs pos="100000">
                        <a:srgbClr val="ff9933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герои сказок 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276720" y="2276640"/>
              <a:ext cx="5329080" cy="43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0080"/>
                      </a:gs>
                      <a:gs pos="100000">
                        <a:srgbClr val="ff9933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 </a:t>
              </a: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0080"/>
                      </a:gs>
                      <a:gs pos="100000">
                        <a:srgbClr val="ff9933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 животных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 spd="med">
    <p:diamond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-3160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БЫТОВЫЕ СКА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920" y="764640"/>
            <a:ext cx="64008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Рассказывают о людях,с которыми происходят необычные истори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4402080" cy="4346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med">
    <p:diamond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0-18T11:55:2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